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EE15-869F-4AA9-BE64-6ECF4A574296}" type="slidenum">
              <a:rPr b="0" lang="pt-B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de apresentação do trabalh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o legal este slide para você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o deve ser explicado pelo Marcelo, não vou com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 necessário explicar, se precisar eu posso falar desse slide 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qui será interrompido o power point para mostrar o funcionamento do Siste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pe de desenvolvi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mente será lido o que foi escrito nesse slide explicando as dificuldades do ensino a distâ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duas primeiras citações basicamente serão citadas, na terceira é necessário explicar que a estrutura interna do sistema foi desenvolvida com a preocupação de facilitar sua ampliação 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o ultimo tópico, a justificativa é que as tecnologias envolvidas são gratu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mente é um resumo do capítulo dois do trabalho. Um exemplo, nos pilares do e learning será necessário apenas informar que é a tecnologia, conteúdo  e  gestão sendo que na falta de um desses elementos, torna incompleto um projeto de ensino a distâ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 que vu f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B5C-F4F7-48F1-906D-B91CB5FB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498-8A2A-4A0F-842B-D19D1CC2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A49-4AD6-4596-9544-930A92F7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773-2804-4EA0-B08E-51C889DC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6063-5551-4DB7-ABEA-3FDE698B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E2A2-09AF-4A85-A7C2-3C197168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BEB4-8238-409B-81A1-3B69582B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4D5E-5439-41C2-B705-2717112F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46D5-79B3-4B83-9CA9-DBF98252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BA9C-4B68-4E9A-8E1B-15585459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A0A4-5D8D-4FF4-9EC1-B925C73B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6F4-3DE9-480C-9C4B-FF3EC46B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25B4-4BB0-47FA-BD8B-7BBB02A5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FA77-10F9-491C-8272-70164FD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A091-A409-45C9-91E1-93A3B7FB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0DE1-F0D8-4458-B80F-E30609FC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E1C3-25E8-4E76-8326-0981ADF4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570-0A5F-4F40-874F-A69005D5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E6D-305F-4C8F-A5B3-4EE88B9E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D63-D7ED-4B0F-BE7C-4ED264AC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097-C516-4C48-9BAF-BC94D105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B2F-1B65-4742-B28D-86E718B1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D34-895B-49FA-98E0-A6A7C3F4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1E3-C5DA-4912-9399-F1C6723E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CDF5-FDF2-47CB-A4FD-C96A207457F3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21000"/>
            <a:ext cx="9009000" cy="1052280"/>
            <a:chOff x="0" y="242100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28640"/>
              <a:ext cx="711360" cy="474480"/>
              <a:chOff x="290520" y="252864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2864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2864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50920"/>
              <a:ext cx="737640" cy="474480"/>
              <a:chOff x="414360" y="295092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5092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5092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7784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210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4216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9DCB-419C-4221-A8FB-8BFE8CD97E14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16680" y="3500280"/>
            <a:ext cx="1003320" cy="62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8080" y="1125360"/>
            <a:ext cx="672840" cy="90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48000" y="3933720"/>
            <a:ext cx="2378160" cy="42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Sistema de Desenvolvimento e Gerenciamento de Tutorial para Ensino a Distânci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ologia Utiliz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470480" y="2747880"/>
            <a:ext cx="0" cy="257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1916280"/>
            <a:ext cx="1306800" cy="869760"/>
          </a:xfrm>
          <a:prstGeom prst="rect">
            <a:avLst/>
          </a:prstGeom>
          <a:gradFill rotWithShape="0">
            <a:gsLst>
              <a:gs pos="0">
                <a:srgbClr val="717ef5">
                  <a:alpha val="52156"/>
                </a:srgbClr>
              </a:gs>
              <a:gs pos="100000">
                <a:srgbClr val="40488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2022480"/>
            <a:ext cx="12240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56120" y="3554280"/>
            <a:ext cx="1306800" cy="870120"/>
          </a:xfrm>
          <a:prstGeom prst="rect">
            <a:avLst/>
          </a:prstGeom>
          <a:gradFill rotWithShape="0">
            <a:gsLst>
              <a:gs pos="0">
                <a:srgbClr val="00ff00">
                  <a:alpha val="52156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64000" y="3606840"/>
            <a:ext cx="17812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municad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5335560"/>
            <a:ext cx="1306800" cy="871560"/>
          </a:xfrm>
          <a:prstGeom prst="rect">
            <a:avLst/>
          </a:prstGeom>
          <a:gradFill rotWithShape="0">
            <a:gsLst>
              <a:gs pos="0">
                <a:srgbClr val="ffff00">
                  <a:alpha val="52156"/>
                </a:srgbClr>
              </a:gs>
              <a:gs pos="100000">
                <a:srgbClr val="9292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5407200"/>
            <a:ext cx="1639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3552840"/>
            <a:ext cx="1306440" cy="871560"/>
          </a:xfrm>
          <a:prstGeom prst="rect">
            <a:avLst/>
          </a:prstGeom>
          <a:gradFill rotWithShape="0">
            <a:gsLst>
              <a:gs pos="0">
                <a:srgbClr val="ff0000">
                  <a:alpha val="52156"/>
                </a:srgbClr>
              </a:gs>
              <a:gs pos="100000">
                <a:srgbClr val="92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3573360"/>
            <a:ext cx="1690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specialis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29280" y="2316240"/>
            <a:ext cx="138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24240" y="2316240"/>
            <a:ext cx="138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24240" y="2303640"/>
            <a:ext cx="0" cy="124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2303640"/>
            <a:ext cx="0" cy="124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24240" y="4424400"/>
            <a:ext cx="0" cy="21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24240" y="6594480"/>
            <a:ext cx="409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516720" y="4424400"/>
            <a:ext cx="0" cy="217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83040" y="4254480"/>
            <a:ext cx="86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43440" y="424188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7520" y="4254480"/>
            <a:ext cx="84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97520" y="4241880"/>
            <a:ext cx="0" cy="110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5589720"/>
            <a:ext cx="864216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f22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quivos base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869000"/>
            <a:ext cx="720072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61080" y="3319560"/>
            <a:ext cx="1008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97080" y="1844640"/>
            <a:ext cx="647640" cy="30592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Ê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8160" y="1844640"/>
            <a:ext cx="647640" cy="30592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Á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57800" y="1844640"/>
            <a:ext cx="647640" cy="30592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Ó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92720" y="1844640"/>
            <a:ext cx="647640" cy="30592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1844640"/>
            <a:ext cx="647640" cy="30592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9800" y="620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nologias Utiliz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691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HTM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s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40720" y="5877000"/>
            <a:ext cx="1079280" cy="380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5889600"/>
            <a:ext cx="1008000" cy="3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rciona maior comodidade a instituição que aderir esse sistem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 acessíve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essita de um bom conteúdo didátic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envolveu-se um manual para orientar o usuário na utilização dos recursos oferecidos pela ferrament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ovação em congressos como CONIC e SB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812000" y="5877000"/>
            <a:ext cx="1003320" cy="62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1988640"/>
            <a:ext cx="73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monstr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24280" y="3429000"/>
            <a:ext cx="1827360" cy="11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934320" y="2584440"/>
            <a:ext cx="860400" cy="844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gunta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143000" y="2584440"/>
            <a:ext cx="86040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iano Almeida Sil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elo Maciel Roc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elo Santos do Nasc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s Vinicius Gat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5943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rientação: André Luis Lapo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mo da Apresent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424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que é este sistem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ais Caracterís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odologia Utiliz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3760" y="2349360"/>
            <a:ext cx="348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nologias Utiliz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nt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8920" y="6202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 que é este sistem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rciona o gerenciamento e desenvolvimento do material de estu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za as vantagens do estudo a distânci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524720" y="5373720"/>
            <a:ext cx="1314360" cy="1147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2133720"/>
            <a:ext cx="77724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lhorar as plataformas existent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imorar o processo de ensino-aprendizag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borar um sistema que funciona nas principais plataformas operaciona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envolver uma ferramenta de baixo cust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ar e facilitar o acesso ao estud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envolver uma estrutura adaptável e de fácil redimensiona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cipais Característ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684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 web que funciona nos principais navegador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envolvido para proporcionar estudo on-line e off-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93080" y="5589720"/>
            <a:ext cx="17143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1440" y="620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 -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que utilizar o ensino a distânc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Learning no Bras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o da educação à distâ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144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ologia Utiliz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20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 desenvolvido a partir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os informático - pedagógicos propo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 Goar Jacindo Diaz Acosta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028000" y="5229360"/>
            <a:ext cx="673200" cy="90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1:20:30Z</dcterms:created>
  <dc:creator>Marcelo Santos do Nascimento</dc:creator>
  <dc:description/>
  <cp:keywords>TCC; FMU</cp:keywords>
  <dc:language>en-US</dc:language>
  <cp:lastModifiedBy>André</cp:lastModifiedBy>
  <dcterms:modified xsi:type="dcterms:W3CDTF">2005-12-07T02:53:04Z</dcterms:modified>
  <cp:revision>221</cp:revision>
  <dc:subject>Trabalho de Conclusão de Curso</dc:subject>
  <dc:title>Apresentação do PowerPoint</dc:title>
</cp:coreProperties>
</file>